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048-F8EC-44B5-9546-7AC3A3CC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306-5027-4F5C-8B6E-0B6640A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1D7-7C0A-4ADD-BCC1-334CE5F5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0A4-63F6-48D9-BC3A-B87D1453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978-B26D-40AD-A908-3D4322DE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1BD-107A-403B-84CF-C5EB27C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B0D-6C76-4920-A8CF-A442905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3E2-E583-4257-9101-26E1EA9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B32-3F72-44DC-94D1-0D631C89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CF5-859C-4461-A156-CF7B57B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087-375B-489A-9510-663A201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039-49EC-422C-A754-9A65F8D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BD1-9906-41C5-BBB8-F5ECAED0B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cology Vigne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9) Aspergillosis/Zygomyc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 yo M treated for leukemia deveops pulmonary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ly infected by air, needs neutrop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riconazole is effective for aspergillis, but not zygomyc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ontag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pergillis: septate hyphae with 45⁰ branchs, characteristic conidiophores and coni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ygomyces: irregular hyphae, few/no septa, mold grows sporan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0) Candidia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ndida albic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 yo F with rash, soreness of thighs, vagina,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Yeasts with germ tubes, chlamydospores, pseudohyph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diabetes, AIDS, immunosuppression, poorly-fitting den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asive disease associated with neutrop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1) Pneumonia, Meningitis, Catheter Inf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Pneumocystis, Cryptococcus, Cand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 yo F with SOB, confused, difficulty walking, oral thrush, severe pneumonia, nuchal rigidity, IV catheter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 broad spectrum ATB and fluconazole (should add TMP-SM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ly HIV 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 jiroveci are clumps of cysts in alve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neoformans caused the meningitis, stains with india 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dida species caused the catheter infection, pseudohyphae, budding yeast w/o germ 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) Lymphocutaneous sporotrich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porothrix schenck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atched hand while working in garden center, infection spreading up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idiospore formation on tip of slender conidioph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orph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faster at 30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 at wound site, lesion spread along draining lymphatics (sporotrichoid patte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anti-Sporothrix Ab, PCR (if avai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Itraconazole, amphotericin B if sev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) Tinea Versicolor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alassezia furf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painful lesions lack pigmentation, no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leprosy b/c has normal pain sen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skin flora, obligate lipophi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st grows in clusters of near-spherical yeasts and some filamentous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Wood’s light (near u.v.) fluoresce green-yellow, KOH st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3) Itchy Wresting Jock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inea corporis, Tinea pedis, Erythras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estler has ring of inflamed skin on arm, flaking between toes, infection inside t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m: Tinea corpor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t: Tinea ped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gh: Erythras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Itraconazole or terbinaf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m near-spherical microconidia, zoophilic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ot somewhat elongate miroconidia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ichophyton rub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gh fluoresce coral-red under Wood’s light, probab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ynebac-terium minutissim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) Blastomyc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lastomyces dermatitid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cation in 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healing lesions on nose, arm, leg for 6 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monary infilt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Ab to “WI-1” or “A antige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morphic, near-spherical yeast which have a broad base to the b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best at 30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Amphotericin B, Itraconazole, Fluconazole (if C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5) Coccidioidomyc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ccidioides immitis/posadas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yo M in hospital with pneumonia, meningitis with skin lesions on 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ed in the lung from disturbed s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nucleic acid probes specific for rRNA 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herules mature in tissue and are packed with endosp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d produces arthro-spores separated by empty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ive disease are DTH skin test negative and high complement-fixing titers (Ig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6) Cryptococc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ryptococcus neoform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+ home remo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mental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ions on forearm/bu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ed in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: Latex test for Cryptococcus capsular carbohyd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geon droppings (C. gattii associated with eucalyptus trees, Vancou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ding yeast (india ink), brown colonies on bird seed 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fects T-cell mediated immunode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7) Erythema nodosum/multiform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ccidioides immit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led in AZ, NV, exposed to d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painful red bumps, warm, t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vidence of infection when scraped on KOH m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nger developed r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sensitivity rx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possible causes, location suggests C. imm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ult women suscept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steroids (for stress-induced hiv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8) Histoplasm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Histoplasma capsulat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emigrated bulder with influenza-like illness, lesions on finger/to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monary infiltrates, severe lung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prognosis: strong DTH, low CF Ab t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pore forms (large rough, sma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orphic, mycelium produces rough macroconidia and microconi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bird feces and bat guano in soil and at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3:50:09Z</dcterms:created>
  <dc:creator>JP</dc:creator>
  <dc:description/>
  <dc:language>en-US</dc:language>
  <cp:lastModifiedBy>JP</cp:lastModifiedBy>
  <dcterms:modified xsi:type="dcterms:W3CDTF">2008-11-14T01:07:28Z</dcterms:modified>
  <cp:revision>9</cp:revision>
  <dc:subject/>
  <dc:title>Mycology Vignettes</dc:title>
</cp:coreProperties>
</file>